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2754-BF79-48B5-812E-C76C10BCB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5984-95D3-44D5-AB75-58348CE162B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63F-F00F-417F-BAEF-E530F27C07B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1CD5-3C4E-41B2-AF49-724523D445A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EE4-ACD5-4D81-80CB-FBE893F7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6CD-665F-43E8-B76D-0E31BB2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D50-2B55-4602-A28D-86CBC829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1B2-DE87-4937-ADF7-8FADFB1D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22F-1D74-4995-85F7-F79072B2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6B7C-A1FD-4BFA-83FD-6787BF5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C5DD-E077-4F36-B3CC-64EB9272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D1D0-2B52-4582-8704-C1CAC679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BC7-2F92-4539-AD55-C7F98216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3C4C-8784-418A-915D-B762D1F1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46D7-5486-4F7F-8D9E-404EA60A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9AE5-4F51-4574-A99D-62D2C6CF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1253-6D06-459E-8D69-E5536F30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7F9B-889B-4358-86E4-82F0F0D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6AD7-4E12-460F-98A5-2655D9F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63EC-0D53-4CEA-B658-2D5ADBF8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6C2D-BF8B-43B9-A7E4-572198DA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55D-6298-4E82-A4D7-7E565BC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326-335E-48C6-9016-E3447B09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887-2261-4043-9F27-9657AFC7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72D-059A-49B0-B22D-958D8AD0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EB7-A07C-486D-A1D0-92D2F4A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4CA-BAFF-406B-B6D3-338F709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BE0-A229-47FC-9231-C77192E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1FB8-C1EE-499E-98F6-793AFCA30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7AF6-B86F-41C7-A2D2-5C42F6F37EE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nnections between Guided Reading, Text Discussions, and Reading Response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5"/>
          <p:cNvGrpSpPr/>
          <p:nvPr/>
        </p:nvGrpSpPr>
        <p:grpSpPr>
          <a:xfrm>
            <a:off x="609480" y="5181480"/>
            <a:ext cx="8305920" cy="1371600"/>
            <a:chOff x="609480" y="5181480"/>
            <a:chExt cx="8305920" cy="1371600"/>
          </a:xfrm>
        </p:grpSpPr>
        <p:sp>
          <p:nvSpPr>
            <p:cNvPr id="114" name="Rectangle 13"/>
            <p:cNvSpPr/>
            <p:nvPr/>
          </p:nvSpPr>
          <p:spPr>
            <a:xfrm>
              <a:off x="609480" y="5181480"/>
              <a:ext cx="8305920" cy="13716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5" name="TextBox 14"/>
            <p:cNvSpPr/>
            <p:nvPr/>
          </p:nvSpPr>
          <p:spPr>
            <a:xfrm>
              <a:off x="7078680" y="5289480"/>
              <a:ext cx="160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Next Book &amp; Book Act 9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609480" y="4114800"/>
            <a:ext cx="8305920" cy="990720"/>
            <a:chOff x="609480" y="4114800"/>
            <a:chExt cx="8305920" cy="990720"/>
          </a:xfrm>
        </p:grpSpPr>
        <p:sp>
          <p:nvSpPr>
            <p:cNvPr id="117" name="Rectangle 9"/>
            <p:cNvSpPr/>
            <p:nvPr/>
          </p:nvSpPr>
          <p:spPr>
            <a:xfrm>
              <a:off x="609480" y="4114800"/>
              <a:ext cx="8305920" cy="99072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860160" y="4197960"/>
              <a:ext cx="197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Hmwk, Next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Class, Act #8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609480" y="1905120"/>
            <a:ext cx="8305920" cy="1676160"/>
            <a:chOff x="609480" y="1905120"/>
            <a:chExt cx="8305920" cy="1676160"/>
          </a:xfrm>
        </p:grpSpPr>
        <p:sp>
          <p:nvSpPr>
            <p:cNvPr id="120" name="Rectangle 5"/>
            <p:cNvSpPr/>
            <p:nvPr/>
          </p:nvSpPr>
          <p:spPr>
            <a:xfrm>
              <a:off x="609480" y="1981080"/>
              <a:ext cx="8305920" cy="1600200"/>
            </a:xfrm>
            <a:prstGeom prst="rect">
              <a:avLst/>
            </a:prstGeom>
            <a:solidFill>
              <a:srgbClr val="ffd1d1"/>
            </a:solidFill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1" name="TextBox 6"/>
            <p:cNvSpPr/>
            <p:nvPr/>
          </p:nvSpPr>
          <p:spPr>
            <a:xfrm>
              <a:off x="7010640" y="1905120"/>
              <a:ext cx="182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n class and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Activity #7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iscussing and  Responding to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alistic Fic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uring Reading Instru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cussion Webs and Text Talk Queries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uided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Conversa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Post Reading Instruc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iterature Circle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structure for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alking about a book with peer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Literature Response Journals: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ce to freely express personal responses to a book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Coming Up – with our next book…</a:t>
            </a: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Literature Response Journal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ersonal meaning-making 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nitoring understand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 inferenc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king, validating, or invalidating prediction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ressing wonder or confus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aracter and plot 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aracter interaction or assessment/judg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ory Involve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terary evalu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iterary criticism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346640" y="624852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TRA: Hancock article (1993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Where do these responses fit into a </a:t>
            </a:r>
            <a:br>
              <a:rPr sz="3600"/>
            </a:b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Metacognitive Reading Framework?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nk-Alou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tice/Appl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arif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fine (small groups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 strategy use g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lf-Assessmen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9" name="Group 10"/>
          <p:cNvGrpSpPr/>
          <p:nvPr/>
        </p:nvGrpSpPr>
        <p:grpSpPr>
          <a:xfrm>
            <a:off x="4724280" y="4373640"/>
            <a:ext cx="3565080" cy="1557000"/>
            <a:chOff x="4724280" y="4373640"/>
            <a:chExt cx="3565080" cy="1557000"/>
          </a:xfrm>
        </p:grpSpPr>
        <p:sp>
          <p:nvSpPr>
            <p:cNvPr id="130" name="Text Box 4"/>
            <p:cNvSpPr/>
            <p:nvPr/>
          </p:nvSpPr>
          <p:spPr>
            <a:xfrm>
              <a:off x="5502600" y="4373640"/>
              <a:ext cx="2786760" cy="1557000"/>
            </a:xfrm>
            <a:prstGeom prst="rect">
              <a:avLst/>
            </a:prstGeom>
            <a:solidFill>
              <a:srgbClr val="ffdc4c"/>
            </a:solidFill>
            <a:ln w="2844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Discussion Webs;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Literature Circles;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Literature 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Response Journals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grpSp>
          <p:nvGrpSpPr>
            <p:cNvPr id="131" name="Group 7"/>
            <p:cNvGrpSpPr/>
            <p:nvPr/>
          </p:nvGrpSpPr>
          <p:grpSpPr>
            <a:xfrm>
              <a:off x="4724280" y="4800240"/>
              <a:ext cx="1066320" cy="685440"/>
              <a:chOff x="4724280" y="4800240"/>
              <a:chExt cx="1066320" cy="685440"/>
            </a:xfrm>
          </p:grpSpPr>
          <p:sp>
            <p:nvSpPr>
              <p:cNvPr id="132" name="Line 5"/>
              <p:cNvSpPr/>
              <p:nvPr/>
            </p:nvSpPr>
            <p:spPr>
              <a:xfrm>
                <a:off x="4724280" y="5029200"/>
                <a:ext cx="1066320" cy="456480"/>
              </a:xfrm>
              <a:prstGeom prst="line">
                <a:avLst/>
              </a:prstGeom>
              <a:ln w="38160">
                <a:solidFill>
                  <a:srgbClr val="33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  <p:sp>
            <p:nvSpPr>
              <p:cNvPr id="133" name="Line 6"/>
              <p:cNvSpPr/>
              <p:nvPr/>
            </p:nvSpPr>
            <p:spPr>
              <a:xfrm flipV="1">
                <a:off x="4725000" y="4800240"/>
                <a:ext cx="959400" cy="228600"/>
              </a:xfrm>
              <a:prstGeom prst="line">
                <a:avLst/>
              </a:prstGeom>
              <a:ln w="38160">
                <a:solidFill>
                  <a:srgbClr val="33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8"/>
          <p:cNvSpPr/>
          <p:nvPr/>
        </p:nvSpPr>
        <p:spPr>
          <a:xfrm>
            <a:off x="3750480" y="2971800"/>
            <a:ext cx="4735800" cy="825480"/>
          </a:xfrm>
          <a:prstGeom prst="rect">
            <a:avLst/>
          </a:prstGeom>
          <a:solidFill>
            <a:srgbClr val="ffdc4c"/>
          </a:solidFill>
          <a:ln w="284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AR (Four level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xt Talk (Guided Conversation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cxnSp>
        <p:nvCxnSpPr>
          <p:cNvPr id="135" name="Straight Arrow Connector 12"/>
          <p:cNvCxnSpPr/>
          <p:nvPr/>
        </p:nvCxnSpPr>
        <p:spPr>
          <a:xfrm flipV="1">
            <a:off x="4267080" y="3809520"/>
            <a:ext cx="534240" cy="457920"/>
          </a:xfrm>
          <a:prstGeom prst="straightConnector1">
            <a:avLst/>
          </a:prstGeom>
          <a:ln w="38160">
            <a:solidFill>
              <a:srgbClr val="33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 and Lesson Plan Assignmen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ue Tues. Nov. 9 –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egi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ook Activity 7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BA8 you’ve already done) – Turn in BA7 and 8 on Nov. 9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Hancock Ch 15 (Assessment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ug in ideas for your reading/thinking plan (bring to class on Tuesda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v. 9: Writing Objectives and Linking to Standard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this will work best if you have lesson  objectives in mind!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ed. Nov. 10 – Reading Plan outline due for feedback</a:t>
            </a:r>
            <a:br>
              <a:rPr sz="2600"/>
            </a:b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So what happens AFTER Guided Reading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e-reading: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tivate knowledge; engage in big ideas; discuss challenging words/concepts; make predi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During reading: (Guided read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our levels of questions  -- Model/apply strategi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iscussion Webs  -- Story maps  -- Text talk quer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fter reading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at instructional practices can foster active  engagement, social interaction, meaning making and response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alking About Books (Ch. 9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Oral Response Promp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Grades K-2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did you notice? How did you feel? What does the story remind you of?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tell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framed in elements of story) (K-6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mpare/Contrast Graphic Organize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onversa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at is your favorite part? What does it remind you of? Why is this part/character important? (K-3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iscussing author’s craft, impressions, connections, key points, difficult ideas… (3-6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ut often children need more structure to get them started &gt;&gt; Literature circle roles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ptimally, students choose their own reading material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mall temporary groups are formed, based upon book choice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ds use written or drawn notes to guide book discussion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s aim to be open, natural conversations about books (rather than Q&amp;A list to finish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 newly-forming groups, students may rotate through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task rol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962520" y="5715000"/>
            <a:ext cx="685800" cy="5335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are Literature Circles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e teacher serves as a facilitator, not a group member or instructor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valuation is by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eacher observ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tudent self-evalua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ptimally, different groups read different books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spirit of playfulness and fun pervades the room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When books are finished, readers share with classmates and new groups from around a different book choice.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819520" y="3352680"/>
            <a:ext cx="609480" cy="60984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ploring Literatur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ircle Roles (for Book Activity 8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ion Dir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iterary Luminary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onnecto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haracter Capt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rtful Adventur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ocabulary Enrich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5715000" y="2895480"/>
            <a:ext cx="1600200" cy="137160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 flipH="1">
            <a:off x="5181480" y="44956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hoose roles: 3 groups of 6 stud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icture 2.png"/>
          <p:cNvPicPr/>
          <p:nvPr/>
        </p:nvPicPr>
        <p:blipFill>
          <a:blip r:embed="rId1"/>
          <a:stretch/>
        </p:blipFill>
        <p:spPr>
          <a:xfrm>
            <a:off x="65160" y="1828800"/>
            <a:ext cx="9078840" cy="4533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iterature 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iterature Circle Rol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10" name="Picture 6" descr="Picture 3.pn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Your Refl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ased on this “mini” experience, take five minutes to “quick-write” your reactions to the literature circle experience. Jot brief ideas about whatever thoughts, opinions, feelings, and/or questions are on your mind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18:42Z</dcterms:created>
  <dc:creator>Julie Coiro</dc:creator>
  <dc:description/>
  <dc:language>en-US</dc:language>
  <cp:lastModifiedBy>Julie Coiro</cp:lastModifiedBy>
  <cp:lastPrinted>2008-03-06T01:50:51Z</cp:lastPrinted>
  <dcterms:modified xsi:type="dcterms:W3CDTF">2010-11-04T01:29:59Z</dcterms:modified>
  <cp:revision>281</cp:revision>
  <dc:subject/>
  <dc:title>Metacognitive Strategy Instruction to Enhance Reading Comprehension</dc:title>
</cp:coreProperties>
</file>